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4.wmf" ContentType="image/x-wmf"/>
  <Override PartName="/ppt/media/image6.png" ContentType="image/png"/>
  <Override PartName="/ppt/media/image31.png" ContentType="image/png"/>
  <Override PartName="/ppt/media/image29.png" ContentType="image/png"/>
  <Override PartName="/ppt/media/image19.jpeg" ContentType="image/jpeg"/>
  <Override PartName="/ppt/media/image11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6.wmf" ContentType="image/x-wmf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15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CE0-6FC7-461C-AB18-9CD6518F6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9EA-BA33-4931-AFA6-C74EF7CA8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22206-FF9D-4E0F-A233-CBD73F1D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B6E99-1F45-49C9-A5DC-306B289E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4438D0-5018-46EC-B23F-7A2935D47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DF355D-3B70-499D-8A57-94215737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18229C-2E5B-496F-8406-25A44AE5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696FA-5192-420E-9ACD-C8C50D7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5DC87E-A894-4B7F-AA30-B1D245E1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C3BADF-8C2E-4B9A-BEC7-25AD9D91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3EEEF1-EEC3-4AE3-9419-A5BF7F6F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5DD2-0CF2-48C0-9F39-0AF6F9DF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2B2-3D4F-4708-98D4-864371B8B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739A-7777-4407-837B-D8870809F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7DF646-FFEB-4A9B-A135-9CF9F2C2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4D4DF-B5B9-4359-95DA-68F1379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6CE325-26FE-4D1F-A3DA-4F5999071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628514-684E-47F7-8297-460E3027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4A0DA-89BB-4840-85BA-9A48576B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6604-489D-4028-96D1-DD43C9EB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31F-5814-4970-AF0C-33A8628C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1D30E-D211-4143-ACA3-4794AD99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BD4BA-A378-4E32-9F60-AAB9A93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F8130-F113-4F0A-A45B-DCCC9E12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6C473-0479-4830-AAC3-AC0A6E56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E366CD-0242-4506-A359-08A7B9F2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6945-8A3B-4A19-9D5A-D5861D9B2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B19A-BEA8-4C3A-904A-8E056DAC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C2D0-2905-4F00-8E28-586D62BC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3EF45-6D76-4413-AA8A-92888374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93333-80D1-4D89-A576-987BA488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A368-7BEE-4905-9361-E8B06E17C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71C61-6381-42BF-B9ED-C3A62AB1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0D7DF-0D3C-49A9-812A-6D7A2BE0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8913E-531C-447D-BD25-1C79760B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E4E70-7001-444F-8C0C-6FE768D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82D5D-1BD0-4F18-B68E-A1FF95FA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1D22-33DD-45B3-B650-5AE5A26DF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40CB-4EF9-4F09-982C-CE9155471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9A714-C156-49E9-9E65-E3EFD4EE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2FB08-D2AF-45B2-8FB7-DCE67FD2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0CD4BE-B0FF-434E-A4DA-2BA14515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2173-41CF-4024-8C0F-93FA6F74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B6F1DC-7F93-40AE-8670-438515B8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DF303E-0932-4FAC-B509-6185C952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F8C959-7100-4423-9A84-334FD7DD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9EC6D-D000-4D2B-9C2A-C4DE9D00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EE95BD-FD7D-4F57-86E2-326EBF6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A1DFE1-4DAB-4A6C-B94A-BF9DCD95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616BCE-3153-4A75-880B-4F6F4D0D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7C9CA8-48AB-46D3-B237-CED81AE1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7250C-FC91-45FB-B422-91A778284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6C2517-F9CC-487B-8517-C3953F02C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BBC-5BE6-41D5-AD4E-7845B1DD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A2BF3-F8FA-4ACA-BC05-F15B7311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6C25E-C2A9-48C6-A92C-0132395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DDA8C-DAD7-412C-B676-778099C9A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83E2D-95FA-4000-8B2A-15DE028D5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97BA-AD63-430C-A831-6ED5472F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5CEC-0DE2-4350-ADC6-6FEEE6E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11D4C-C79F-418B-8F19-32ACE67F0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17D9B-1E38-40F3-B559-760FEF0B4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6A81-CACA-47AC-833A-075A167D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12EB-6B34-46CC-8220-02976E36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5398-D7CA-4A6C-A01C-5E0AF1B7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4870-9D2D-421A-8900-CC8B4164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7E1B1-52E7-477C-A94E-C462C1F4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B965C-588A-4519-A79D-94C34C8C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BC8D-3465-4ECB-9C52-D62870D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6C0E3-4757-44DA-90A9-488BE999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8A14-DA2D-43DA-8CA2-239D9BCA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E3888-80B9-467A-BA83-1990A28A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54B2D-79BC-40C3-BBCC-A2C106F8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DAE49-4DB2-48FE-8422-C582964C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24CEA-F3C9-43FF-9676-B253A6F5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FB2F-3A52-45E1-B47A-5B471791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7F4AF-5E6E-4514-B90D-C15DBBB8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F6D20-8153-4ACB-B1D6-70791E955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287EE-65E0-4347-9F41-88EF39E78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D37EE-1F54-43C3-9DCE-E5989C48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00DA0-475A-4D06-9317-85E96EB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2104-4B88-448B-A742-F6A0E87CC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B33D0-1B0D-422A-8237-32F09605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B180E-3C12-47FE-AFC4-B2A46487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ADAFF-C0F7-4BE0-9BFA-116209AB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8C5CA2-DEBF-4CC0-91FD-F2E365CD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4CF-38C9-4F1F-9DB9-8DDCB9C5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A54E5-CD2A-43FD-A737-65E2E06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A4A26-4B08-47FF-A9DA-294E4A9F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F59A0-A16B-4305-A473-791336A8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A54DFB-615C-4659-8BD1-AEA4D54A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0E92C-06B8-4006-AC8E-86A7B367A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D006F4-DF84-44FA-A626-D6D07B5B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A7E26D-4EA0-4A0F-AF0E-805F9E2C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A5E947B-1ED5-474F-B6C7-64817E05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D6918-765E-44E5-82C5-53B34D80A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9BB8FF-88B0-4ABB-B355-B8022583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F3DD-710D-4647-B69B-219EACFA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04F19C-2F58-425B-A61F-4BF2E2E1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6F520C-F338-4C09-A686-F14822E1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F200069-DA9D-46AF-9C90-F7375A49E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3DF807-498F-4EF9-B2C2-8C5F613C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D2E0F8-E616-46AD-8394-A01086CD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DAAB7-8F86-4B5A-90CC-2C879ACE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C2E6A4-9616-4D97-8FA6-31CAF1AD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12E5E8-FF3D-4BCD-95DB-523D9A41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B8E336-EA22-424A-B476-60B60167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055997-230B-4378-BCE8-5E42FCCF7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0E37-E4A9-4562-9360-E89CA14A34A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3797-E86E-4160-AA31-75E31D77754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0A26-FF9E-4815-B232-8D25A841ED4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C5645-EE5E-4E76-B345-1E1CF1D4C16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0267-0372-42EE-B820-3C74128036C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E9B2-3E8F-41A5-AF9F-D21E2949E1C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8760" y="139680"/>
            <a:ext cx="8820000" cy="6578640"/>
            <a:chOff x="158760" y="139680"/>
            <a:chExt cx="8820000" cy="657864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7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C82D-EAE2-47F4-950D-27BFBEAF8E1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DD84B-A95D-435F-92D2-12770CC133D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1E72-54D3-4419-BFAA-9B5214D1BB2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63680" y="384120"/>
            <a:ext cx="8412120" cy="25909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Vraciu Cristia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asse 9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on nom vient du mot "chandelle"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On fait et on mange des crêpes 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ela porte bonheur de les faire sauter avec un morceau d'or dans la main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3" name="Picture 6" descr="Crêpes"/>
          <p:cNvPicPr/>
          <p:nvPr/>
        </p:nvPicPr>
        <p:blipFill>
          <a:blip r:embed="rId2"/>
          <a:stretch/>
        </p:blipFill>
        <p:spPr>
          <a:xfrm>
            <a:off x="914400" y="4724280"/>
            <a:ext cx="1523880" cy="1616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Crêpes"/>
          <p:cNvPicPr/>
          <p:nvPr/>
        </p:nvPicPr>
        <p:blipFill>
          <a:blip r:embed="rId3"/>
          <a:stretch/>
        </p:blipFill>
        <p:spPr>
          <a:xfrm>
            <a:off x="6705720" y="4419720"/>
            <a:ext cx="1181160" cy="161928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4" descr="Chandelle"/>
          <p:cNvPicPr/>
          <p:nvPr/>
        </p:nvPicPr>
        <p:blipFill>
          <a:blip r:embed="rId4"/>
          <a:stretch/>
        </p:blipFill>
        <p:spPr>
          <a:xfrm>
            <a:off x="7389720" y="1066680"/>
            <a:ext cx="116208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la  Fête National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 Français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e jour-là, il y a de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filés militaires dan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ru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On peut bien sûr admirer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  feux d’artifice le soir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95680" cy="23619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3" descr=""/>
          <p:cNvPicPr/>
          <p:nvPr/>
        </p:nvPicPr>
        <p:blipFill>
          <a:blip r:embed="rId3"/>
          <a:stretch/>
        </p:blipFill>
        <p:spPr>
          <a:xfrm>
            <a:off x="5632560" y="4191120"/>
            <a:ext cx="2971800" cy="20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1680" cy="152388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C’est la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 du travail. C’est un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jour férié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Rockwell"/>
              </a:rPr>
              <a:t>Pendant ce jour férié on s'offre un petit bouguet de mugue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Timide et coquet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Je m'appelle le muguet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Dans mes feuilles je me cac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de peur qu'on ne m'arrache 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Et s'il est vrai que je porte bonheur</a:t>
            </a:r>
            <a:br>
              <a:rPr sz="2800"/>
            </a:br>
            <a:r>
              <a:rPr b="0" lang="fr-FR" sz="2800" spc="-1" strike="noStrike">
                <a:solidFill>
                  <a:srgbClr val="ffffff"/>
                </a:solidFill>
                <a:latin typeface="Lucida Calligraphy"/>
              </a:rPr>
              <a:t>Venez, venez je vous offre mon cœur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6705720" y="2590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une fête mobile qui se fête entre le 22 mars et le 25 avril. C'est une fête religieuse qui commémore la résurrection de Jésus pour la religion chrétien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reçoivent des œufs,des     cloches, des lapins et des poussins en   chocola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ont 15 jours de vacances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7467480" y="2133720"/>
            <a:ext cx="14479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lapin chocolat"/>
          <p:cNvPicPr/>
          <p:nvPr/>
        </p:nvPicPr>
        <p:blipFill>
          <a:blip r:embed="rId3"/>
          <a:stretch/>
        </p:blipFill>
        <p:spPr>
          <a:xfrm>
            <a:off x="228600" y="4267080"/>
            <a:ext cx="952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un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religieus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. La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Noël est devenue la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êt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 de l’enfance. Le Père Noël qui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habite le Pôle Nord fait des cadeaux. Les enfants ont deux semaines de vacanc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9" name="Picture 8" descr="MCj02857940000[1]"/>
          <p:cNvPicPr/>
          <p:nvPr/>
        </p:nvPicPr>
        <p:blipFill>
          <a:blip r:embed="rId2"/>
          <a:stretch/>
        </p:blipFill>
        <p:spPr>
          <a:xfrm>
            <a:off x="533520" y="152280"/>
            <a:ext cx="1814400" cy="1271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"/>
          <p:cNvPicPr/>
          <p:nvPr/>
        </p:nvPicPr>
        <p:blipFill>
          <a:blip r:embed="rId3"/>
          <a:stretch/>
        </p:blipFill>
        <p:spPr>
          <a:xfrm>
            <a:off x="609480" y="4114800"/>
            <a:ext cx="1847880" cy="24764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7" descr="MCj03973800000[1]"/>
          <p:cNvPicPr/>
          <p:nvPr/>
        </p:nvPicPr>
        <p:blipFill>
          <a:blip r:embed="rId4"/>
          <a:stretch/>
        </p:blipFill>
        <p:spPr>
          <a:xfrm>
            <a:off x="6172200" y="3962520"/>
            <a:ext cx="1814400" cy="17859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3" descr=""/>
          <p:cNvPicPr/>
          <p:nvPr/>
        </p:nvPicPr>
        <p:blipFill>
          <a:blip r:embed="rId5"/>
          <a:stretch/>
        </p:blipFill>
        <p:spPr>
          <a:xfrm>
            <a:off x="2936880" y="4267080"/>
            <a:ext cx="27050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534520" cy="15066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aint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Valentin est le patron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es amoureux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'est la fête de l'amour. Les amoureux sortent, vont au restaurant et les jeunes filles reçoivent des fleurs, des chocolats ou des bijoux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5" name="Picture 6" descr="valenti"/>
          <p:cNvPicPr/>
          <p:nvPr/>
        </p:nvPicPr>
        <p:blipFill>
          <a:blip r:embed="rId2"/>
          <a:stretch/>
        </p:blipFill>
        <p:spPr>
          <a:xfrm>
            <a:off x="3429000" y="4224240"/>
            <a:ext cx="3276720" cy="23590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Cupidon Saint Valentin"/>
          <p:cNvPicPr/>
          <p:nvPr/>
        </p:nvPicPr>
        <p:blipFill>
          <a:blip r:embed="rId3"/>
          <a:stretch/>
        </p:blipFill>
        <p:spPr>
          <a:xfrm rot="893400">
            <a:off x="7655040" y="1496520"/>
            <a:ext cx="11491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195120" y="255600"/>
            <a:ext cx="8491680" cy="15238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st en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évrier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ou en mars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un jour o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ù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 l’on fait un carnaval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Les enfants s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guis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nt et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mangent des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rêpe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9" name="Picture 5" descr="Mardi gras"/>
          <p:cNvPicPr/>
          <p:nvPr/>
        </p:nvPicPr>
        <p:blipFill>
          <a:blip r:embed="rId2"/>
          <a:stretch/>
        </p:blipFill>
        <p:spPr>
          <a:xfrm rot="1158000">
            <a:off x="5837040" y="1066320"/>
            <a:ext cx="1428480" cy="1447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" descr=""/>
          <p:cNvPicPr/>
          <p:nvPr/>
        </p:nvPicPr>
        <p:blipFill>
          <a:blip r:embed="rId3"/>
          <a:stretch/>
        </p:blipFill>
        <p:spPr>
          <a:xfrm>
            <a:off x="6095880" y="3429000"/>
            <a:ext cx="2057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238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C’est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une fête qui se célèbre le 31 octobre, veille de la Toussaint.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On pose des potirons oranges dans la maison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On se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déguise en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sorcières </a:t>
            </a:r>
            <a:r>
              <a:rPr b="0" lang="en-AU" sz="3200" spc="-1" strike="noStrike">
                <a:solidFill>
                  <a:srgbClr val="ffffff"/>
                </a:solidFill>
                <a:latin typeface="Rockwell"/>
              </a:rPr>
              <a:t>et en </a:t>
            </a: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fantômes. C'est un véritable concours d'horreur!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3" name="Picture 12" descr="MCj04359230000[1]"/>
          <p:cNvPicPr/>
          <p:nvPr/>
        </p:nvPicPr>
        <p:blipFill>
          <a:blip r:embed="rId2"/>
          <a:stretch/>
        </p:blipFill>
        <p:spPr>
          <a:xfrm>
            <a:off x="6553080" y="4648320"/>
            <a:ext cx="1803600" cy="18828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0" descr="MCj04362080000[1]"/>
          <p:cNvPicPr/>
          <p:nvPr/>
        </p:nvPicPr>
        <p:blipFill>
          <a:blip r:embed="rId3"/>
          <a:stretch/>
        </p:blipFill>
        <p:spPr>
          <a:xfrm>
            <a:off x="685800" y="228600"/>
            <a:ext cx="1828800" cy="11556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1" descr="MCj04362130000[1]"/>
          <p:cNvPicPr/>
          <p:nvPr/>
        </p:nvPicPr>
        <p:blipFill>
          <a:blip r:embed="rId4"/>
          <a:stretch/>
        </p:blipFill>
        <p:spPr>
          <a:xfrm>
            <a:off x="7645320" y="1828800"/>
            <a:ext cx="1498680" cy="182880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9" descr="MCj04362160000[1]"/>
          <p:cNvPicPr/>
          <p:nvPr/>
        </p:nvPicPr>
        <p:blipFill>
          <a:blip r:embed="rId5"/>
          <a:stretch/>
        </p:blipFill>
        <p:spPr>
          <a:xfrm>
            <a:off x="2895480" y="4638600"/>
            <a:ext cx="18288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50660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C’est lui qui vient sur son âne pour apporter des jouets aux enfants sages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Les enfants lui laissent un verre de lait (ou de vin), une carotte et des morceaux de sucre pour son âne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Pour les remercier Saint Nicolas leur apporte traditionnellement du pain d'épices et des bonbons. 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9" name="Picture 8" descr="MCj04397680000[1]"/>
          <p:cNvPicPr/>
          <p:nvPr/>
        </p:nvPicPr>
        <p:blipFill>
          <a:blip r:embed="rId2"/>
          <a:stretch/>
        </p:blipFill>
        <p:spPr>
          <a:xfrm rot="570600">
            <a:off x="5810040" y="4458960"/>
            <a:ext cx="2261880" cy="226224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MCj04397670000[1]"/>
          <p:cNvPicPr/>
          <p:nvPr/>
        </p:nvPicPr>
        <p:blipFill>
          <a:blip r:embed="rId3"/>
          <a:stretch/>
        </p:blipFill>
        <p:spPr>
          <a:xfrm rot="20955000">
            <a:off x="812880" y="5079600"/>
            <a:ext cx="149688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30T07:48:08Z</dcterms:created>
  <dc:creator>Cristi</dc:creator>
  <dc:description/>
  <dc:language>en-US</dc:language>
  <cp:lastModifiedBy>Cristi</cp:lastModifiedBy>
  <dcterms:modified xsi:type="dcterms:W3CDTF">2012-04-30T10:02:02Z</dcterms:modified>
  <cp:revision>7</cp:revision>
  <dc:subject/>
  <dc:title>Les Fetes En France</dc:title>
</cp:coreProperties>
</file>